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0975274"/>
        <c:axId val="22207403"/>
      </c:barChart>
      <c:catAx>
        <c:axId val="1097527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2207403"/>
        <c:crosses val="autoZero"/>
        <c:auto val="1"/>
        <c:lblAlgn val="ctr"/>
        <c:lblOffset val="100"/>
        <c:noMultiLvlLbl val="0"/>
      </c:catAx>
      <c:valAx>
        <c:axId val="22207403"/>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097527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2E653-438F-4995-B4A1-F5443C676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F07D1-7E7F-48DB-8D30-B4A140D9D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23746-0837-4AA6-9BDC-C266ED286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70B01-0999-4C1E-BFFC-A7F69020F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F8CD4-D7F4-429B-B778-1C8EAC9BC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E6B0A0-3379-42B7-AF44-498710446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12463-D030-4AA5-8CAF-0D7F3D4E6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0D381-3DC2-4081-B15A-422213726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C4DE3-6F79-4744-B893-743239387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21C93-5846-4132-B3B6-4E5374B00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D201B-A7C1-4DC5-BCC9-F682F579A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6E4CC-3BFE-4294-89FD-F8455F53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B384F-36D5-4149-B76A-E2A9A0CC8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4ABAD-674A-4108-94BC-EE97C7B02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9E20F-842C-43F7-B587-1C9904DD6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A80722-6051-4EE7-93DD-F28E714C52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93ECF9-0EAD-4FFB-ADEF-85B76AE6F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2883-8FDD-4081-B997-CC70D85B4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FA8F-CB42-4BCC-9890-062669BE9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C9474-30D7-4572-9D34-D50143967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9611-B6A7-4302-A2A8-EBAD0EDE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0EAF6-C2DA-4A84-93B1-CEDE57D2E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F0F37-D307-4213-A874-CD4B21828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2A6AD-DADD-4933-98F7-8B775A959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341A6-4738-420A-82F2-38E0DED2DB5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B027B-198F-4A7D-8529-54E146A9AF2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